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76"/>
                </a:solidFill>
                <a:latin typeface="News Gothic MT"/>
              </a:rPr>
              <a:t>Click to move the slide</a:t>
            </a:r>
            <a:endParaRPr b="0" lang="en-US" sz="3600" spc="-1" strike="noStrike">
              <a:solidFill>
                <a:srgbClr val="003d76"/>
              </a:solidFill>
              <a:latin typeface="News Gothic MT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E6DA5-B1A0-49E0-AAD5-AAE3E783E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6B18C-FBA0-440C-AA72-10B3EE2BE00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A7ECD-01EE-45CF-B25F-BD10E3663A3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697F-B066-46E9-9F52-98E92347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FBCE-33C0-436E-8B16-EB72C733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8FC4-1331-44DC-A57B-80804160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AF6C-FB03-4CE5-9FA7-A3F03623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2189-7C64-4ECC-BAE9-2A3F2185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5B9A-EFCA-4997-853C-ED2362D9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1542-E12E-4D1F-9907-1629B2C1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F4B6-512B-4670-A416-52130876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E04C-A18F-469A-AD87-AFFECD63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3DEA-4FB9-4641-8275-CC1A4F36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4417-0528-4B91-91A7-229E899A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30C8-1E20-4D81-B60D-0E31272B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FF4FA-7731-4FBC-A90F-78E1B473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5A93A-20A9-4BEB-824E-52CA5A81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48973-8138-464A-B5A3-7093675A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8910D-301F-4FA1-8F35-916A5FB5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1248A-440A-48BB-983D-157AF4FE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AD30F-BA7C-49B2-913A-7CE33AC8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CB278-190A-4834-85E7-6B8CCF12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DFD6F-B3A8-4674-9AC9-23996766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AC614-7134-4299-9F9F-338E5E13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B70F4-8FCC-4312-A0E6-D2622D36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42A44-E9F0-43BF-A0A8-FFA0BE52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4319D-CDFB-4C3A-8349-0A320AED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644-252B-4056-B6DB-0F5E779E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C5F-EEFF-4192-9C6F-8ECCDDB3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4BD-408C-41E4-AB10-07440D15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E92-0A1A-4E4C-88F2-497F25E5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386-CB35-4EF4-95CE-9D13074F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CCE-C75D-4243-AF39-CE0DDEB8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DD2-FEE0-451A-ABF3-954CDFF7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BC8C-A6BE-40A1-B3AA-1B5D247C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AD01-56E8-41F4-8490-5FF340E7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51BA-C00F-4251-BEBE-BF9C8946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32FE-4144-4E2D-9C8F-24287FDD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F34-C697-4112-B720-9F422C3D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622160" y="68544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622160" y="4165200"/>
            <a:ext cx="6753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82840" y="202068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62216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082840" y="4165200"/>
            <a:ext cx="3295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0564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89120" y="202068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62216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0564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89120" y="4165200"/>
            <a:ext cx="2174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972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1" marL="37944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2" marL="56916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3" marL="75888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4" marL="94860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5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6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pic>
        <p:nvPicPr>
          <p:cNvPr id="2" name="Picture 9" descr="icone charter blue.JPG"/>
          <p:cNvPicPr/>
          <p:nvPr/>
        </p:nvPicPr>
        <p:blipFill>
          <a:blip r:embed="rId2"/>
          <a:stretch/>
        </p:blipFill>
        <p:spPr>
          <a:xfrm>
            <a:off x="457200" y="187020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Icone Protection green.JPG"/>
          <p:cNvPicPr/>
          <p:nvPr/>
        </p:nvPicPr>
        <p:blipFill>
          <a:blip r:embed="rId2"/>
          <a:stretch/>
        </p:blipFill>
        <p:spPr>
          <a:xfrm>
            <a:off x="7261200" y="19044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972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1" marL="37944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2" marL="56916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3" marL="75888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4" marL="94860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5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6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9" descr="icone charter blue.JPG"/>
          <p:cNvPicPr/>
          <p:nvPr/>
        </p:nvPicPr>
        <p:blipFill>
          <a:blip r:embed="rId2"/>
          <a:stretch/>
        </p:blipFill>
        <p:spPr>
          <a:xfrm>
            <a:off x="457200" y="187020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Icone Protection green.JPG"/>
          <p:cNvPicPr/>
          <p:nvPr/>
        </p:nvPicPr>
        <p:blipFill>
          <a:blip r:embed="rId3"/>
          <a:stretch/>
        </p:blipFill>
        <p:spPr>
          <a:xfrm>
            <a:off x="184320" y="14922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972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1" marL="37944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2" marL="56916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3" marL="75888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4" marL="94860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5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6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9" descr="icone charter blue.JPG"/>
          <p:cNvPicPr/>
          <p:nvPr/>
        </p:nvPicPr>
        <p:blipFill>
          <a:blip r:embed="rId2"/>
          <a:stretch/>
        </p:blipFill>
        <p:spPr>
          <a:xfrm>
            <a:off x="457200" y="187020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Icone Protection green.JPG"/>
          <p:cNvPicPr/>
          <p:nvPr/>
        </p:nvPicPr>
        <p:blipFill>
          <a:blip r:embed="rId3"/>
          <a:stretch/>
        </p:blipFill>
        <p:spPr>
          <a:xfrm>
            <a:off x="133200" y="14605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972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1" marL="37944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2" marL="56916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3" marL="75888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4" marL="94860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5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6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9" descr="icone charter blue.JPG"/>
          <p:cNvPicPr/>
          <p:nvPr/>
        </p:nvPicPr>
        <p:blipFill>
          <a:blip r:embed="rId2"/>
          <a:stretch/>
        </p:blipFill>
        <p:spPr>
          <a:xfrm>
            <a:off x="457200" y="187020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Icone Protection green.JPG"/>
          <p:cNvPicPr/>
          <p:nvPr/>
        </p:nvPicPr>
        <p:blipFill>
          <a:blip r:embed="rId3"/>
          <a:stretch/>
        </p:blipFill>
        <p:spPr>
          <a:xfrm>
            <a:off x="120600" y="160956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972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1" marL="37944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2" marL="56916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3" marL="75888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4" marL="94860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5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6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9" descr="icone charter blue.JPG"/>
          <p:cNvPicPr/>
          <p:nvPr/>
        </p:nvPicPr>
        <p:blipFill>
          <a:blip r:embed="rId2"/>
          <a:stretch/>
        </p:blipFill>
        <p:spPr>
          <a:xfrm>
            <a:off x="457200" y="187020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Icone Protection green.JPG"/>
          <p:cNvPicPr/>
          <p:nvPr/>
        </p:nvPicPr>
        <p:blipFill>
          <a:blip r:embed="rId3"/>
          <a:stretch/>
        </p:blipFill>
        <p:spPr>
          <a:xfrm>
            <a:off x="184320" y="15127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972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1" marL="37944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2" marL="56916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3" marL="75888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4" marL="94860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5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6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9" descr="icone charter blue.JPG"/>
          <p:cNvPicPr/>
          <p:nvPr/>
        </p:nvPicPr>
        <p:blipFill>
          <a:blip r:embed="rId2"/>
          <a:stretch/>
        </p:blipFill>
        <p:spPr>
          <a:xfrm>
            <a:off x="457200" y="187020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" descr="Icone Protection green.JPG"/>
          <p:cNvPicPr/>
          <p:nvPr/>
        </p:nvPicPr>
        <p:blipFill>
          <a:blip r:embed="rId3"/>
          <a:stretch/>
        </p:blipFill>
        <p:spPr>
          <a:xfrm>
            <a:off x="262080" y="1538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972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1" marL="37944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2" marL="56916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3" marL="75888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4" marL="94860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5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6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9" descr="icone charter blue.JPG"/>
          <p:cNvPicPr/>
          <p:nvPr/>
        </p:nvPicPr>
        <p:blipFill>
          <a:blip r:embed="rId2"/>
          <a:stretch/>
        </p:blipFill>
        <p:spPr>
          <a:xfrm>
            <a:off x="457200" y="187020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Icone Protection green.JPG"/>
          <p:cNvPicPr/>
          <p:nvPr/>
        </p:nvPicPr>
        <p:blipFill>
          <a:blip r:embed="rId3"/>
          <a:stretch/>
        </p:blipFill>
        <p:spPr>
          <a:xfrm>
            <a:off x="339840" y="1511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972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1" marL="37944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2" marL="56916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3" marL="75888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4" marL="94860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5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6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9" descr="icone charter blue.JPG"/>
          <p:cNvPicPr/>
          <p:nvPr/>
        </p:nvPicPr>
        <p:blipFill>
          <a:blip r:embed="rId2"/>
          <a:stretch/>
        </p:blipFill>
        <p:spPr>
          <a:xfrm>
            <a:off x="457200" y="187020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4" descr="Icone Protection green.JPG"/>
          <p:cNvPicPr/>
          <p:nvPr/>
        </p:nvPicPr>
        <p:blipFill>
          <a:blip r:embed="rId3"/>
          <a:stretch/>
        </p:blipFill>
        <p:spPr>
          <a:xfrm>
            <a:off x="236520" y="15336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972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1" marL="37944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2" marL="56916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3" marL="75888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4" marL="94860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5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6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9" descr="icone charter blue.JPG"/>
          <p:cNvPicPr/>
          <p:nvPr/>
        </p:nvPicPr>
        <p:blipFill>
          <a:blip r:embed="rId2"/>
          <a:stretch/>
        </p:blipFill>
        <p:spPr>
          <a:xfrm>
            <a:off x="457200" y="187020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972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1" marL="37944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2" marL="56916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3" marL="75888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4" marL="94860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5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6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Accountability: September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4C595-70F1-4F80-9EA3-3603D7F1D9A1}" type="slidenum"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25"/>
          <p:cNvGrpSpPr/>
          <p:nvPr/>
        </p:nvGrpSpPr>
        <p:grpSpPr>
          <a:xfrm>
            <a:off x="2071800" y="2503440"/>
            <a:ext cx="1466640" cy="1676520"/>
            <a:chOff x="2071800" y="2503440"/>
            <a:chExt cx="1466640" cy="1676520"/>
          </a:xfrm>
        </p:grpSpPr>
        <p:sp>
          <p:nvSpPr>
            <p:cNvPr id="733" name="Oval 8"/>
            <p:cNvSpPr/>
            <p:nvPr/>
          </p:nvSpPr>
          <p:spPr>
            <a:xfrm>
              <a:off x="2071800" y="2503440"/>
              <a:ext cx="1466640" cy="9525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9"/>
            <p:cNvSpPr/>
            <p:nvPr/>
          </p:nvSpPr>
          <p:spPr>
            <a:xfrm>
              <a:off x="2787480" y="3473640"/>
              <a:ext cx="612720" cy="4096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0"/>
            <p:cNvSpPr/>
            <p:nvPr/>
          </p:nvSpPr>
          <p:spPr>
            <a:xfrm>
              <a:off x="2752560" y="3910320"/>
              <a:ext cx="398160" cy="2696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1"/>
            <p:cNvSpPr/>
            <p:nvPr/>
          </p:nvSpPr>
          <p:spPr>
            <a:xfrm>
              <a:off x="2481120" y="3016080"/>
              <a:ext cx="630000" cy="40788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ound Same Side Corner Rectangle 12"/>
          <p:cNvSpPr/>
          <p:nvPr/>
        </p:nvSpPr>
        <p:spPr>
          <a:xfrm flipH="1" rot="5400000">
            <a:off x="4772880" y="1584000"/>
            <a:ext cx="3475080" cy="3475080"/>
          </a:xfrm>
          <a:custGeom>
            <a:avLst/>
            <a:gdLst/>
            <a:ahLst/>
            <a:rect l="l" t="t" r="r" b="b"/>
            <a:pathLst>
              <a:path w="3475038" h="3475037">
                <a:moveTo>
                  <a:pt x="108491" y="0"/>
                </a:moveTo>
                <a:lnTo>
                  <a:pt x="3366547" y="0"/>
                </a:lnTo>
                <a:cubicBezTo>
                  <a:pt x="3426465" y="0"/>
                  <a:pt x="3475038" y="48573"/>
                  <a:pt x="3475038" y="108491"/>
                </a:cubicBezTo>
                <a:lnTo>
                  <a:pt x="3475038" y="3475037"/>
                </a:lnTo>
                <a:lnTo>
                  <a:pt x="3475038" y="3475037"/>
                </a:lnTo>
                <a:lnTo>
                  <a:pt x="0" y="3475037"/>
                </a:lnTo>
                <a:lnTo>
                  <a:pt x="0" y="3475037"/>
                </a:lnTo>
                <a:lnTo>
                  <a:pt x="0" y="108491"/>
                </a:lnTo>
                <a:cubicBezTo>
                  <a:pt x="0" y="48573"/>
                  <a:pt x="48573" y="0"/>
                  <a:pt x="108491" y="0"/>
                </a:cubicBezTo>
                <a:close/>
              </a:path>
            </a:pathLst>
          </a:custGeom>
          <a:solidFill>
            <a:srgbClr val="003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Imagen 9" descr=""/>
          <p:cNvPicPr/>
          <p:nvPr/>
        </p:nvPicPr>
        <p:blipFill>
          <a:blip r:embed="rId2"/>
          <a:stretch/>
        </p:blipFill>
        <p:spPr>
          <a:xfrm>
            <a:off x="981000" y="1584360"/>
            <a:ext cx="3444840" cy="344484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920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76"/>
                </a:solidFill>
                <a:latin typeface="News Gothic MT"/>
              </a:rPr>
              <a:t>Click to edit the title text format</a:t>
            </a:r>
            <a:endParaRPr b="0" lang="en-US" sz="3600" spc="-1" strike="noStrike">
              <a:solidFill>
                <a:srgbClr val="003d76"/>
              </a:solidFill>
              <a:latin typeface="News Gothic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2265120" y="2020680"/>
            <a:ext cx="61102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1" marL="4478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2" marL="6717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3" marL="8960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4" marL="11199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5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6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920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76"/>
                </a:solidFill>
                <a:latin typeface="News Gothic MT"/>
              </a:rPr>
              <a:t>Click to edit the title text format</a:t>
            </a:r>
            <a:endParaRPr b="0" lang="en-US" sz="3600" spc="-1" strike="noStrike">
              <a:solidFill>
                <a:srgbClr val="003d76"/>
              </a:solidFill>
              <a:latin typeface="News Gothic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265120" y="2020680"/>
            <a:ext cx="61102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1" marL="4478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2" marL="6717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3" marL="8960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4" marL="11199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5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6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15" descr=""/>
          <p:cNvPicPr/>
          <p:nvPr/>
        </p:nvPicPr>
        <p:blipFill>
          <a:blip r:embed="rId2"/>
          <a:srcRect l="0" t="80854" r="0" b="8514"/>
          <a:stretch/>
        </p:blipFill>
        <p:spPr>
          <a:xfrm>
            <a:off x="0" y="0"/>
            <a:ext cx="995400" cy="93204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920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76"/>
                </a:solidFill>
                <a:latin typeface="News Gothic MT"/>
              </a:rPr>
              <a:t>Click to edit the title text format</a:t>
            </a:r>
            <a:endParaRPr b="0" lang="en-US" sz="3600" spc="-1" strike="noStrike">
              <a:solidFill>
                <a:srgbClr val="003d76"/>
              </a:solidFill>
              <a:latin typeface="News Gothic M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2265120" y="2020680"/>
            <a:ext cx="61102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1" marL="4478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2" marL="6717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3" marL="8960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4" marL="11199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5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6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15" descr=""/>
          <p:cNvPicPr/>
          <p:nvPr/>
        </p:nvPicPr>
        <p:blipFill>
          <a:blip r:embed="rId2"/>
          <a:srcRect l="0" t="80854" r="0" b="8514"/>
          <a:stretch/>
        </p:blipFill>
        <p:spPr>
          <a:xfrm>
            <a:off x="7954920" y="0"/>
            <a:ext cx="1189080" cy="111132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920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76"/>
                </a:solidFill>
                <a:latin typeface="News Gothic MT"/>
              </a:rPr>
              <a:t>Click to edit the title text format</a:t>
            </a:r>
            <a:endParaRPr b="0" lang="en-US" sz="3600" spc="-1" strike="noStrike">
              <a:solidFill>
                <a:srgbClr val="003d76"/>
              </a:solidFill>
              <a:latin typeface="News Gothic M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2265120" y="2020680"/>
            <a:ext cx="61102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1" marL="4478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2" marL="6717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3" marL="8960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4" marL="11199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5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6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15" descr=""/>
          <p:cNvPicPr/>
          <p:nvPr/>
        </p:nvPicPr>
        <p:blipFill>
          <a:blip r:embed="rId2"/>
          <a:srcRect l="0" t="80854" r="0" b="8514"/>
          <a:stretch/>
        </p:blipFill>
        <p:spPr>
          <a:xfrm>
            <a:off x="8148600" y="0"/>
            <a:ext cx="995400" cy="93204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920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76"/>
                </a:solidFill>
                <a:latin typeface="News Gothic MT"/>
              </a:rPr>
              <a:t>Click to edit the title text format</a:t>
            </a:r>
            <a:endParaRPr b="0" lang="en-US" sz="3600" spc="-1" strike="noStrike">
              <a:solidFill>
                <a:srgbClr val="003d76"/>
              </a:solidFill>
              <a:latin typeface="News Gothic MT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2265120" y="2020680"/>
            <a:ext cx="61102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1" marL="4478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2" marL="6717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3" marL="8960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4" marL="11199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5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6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15" descr=""/>
          <p:cNvPicPr/>
          <p:nvPr/>
        </p:nvPicPr>
        <p:blipFill>
          <a:blip r:embed="rId2"/>
          <a:srcRect l="0" t="80854" r="0" b="8514"/>
          <a:stretch/>
        </p:blipFill>
        <p:spPr>
          <a:xfrm>
            <a:off x="0" y="0"/>
            <a:ext cx="950760" cy="888840"/>
          </a:xfrm>
          <a:prstGeom prst="rect">
            <a:avLst/>
          </a:prstGeom>
          <a:ln w="0">
            <a:noFill/>
          </a:ln>
        </p:spPr>
      </p:pic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920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76"/>
                </a:solidFill>
                <a:latin typeface="News Gothic MT"/>
              </a:rPr>
              <a:t>Click to edit the title text format</a:t>
            </a:r>
            <a:endParaRPr b="0" lang="en-US" sz="3600" spc="-1" strike="noStrike">
              <a:solidFill>
                <a:srgbClr val="003d76"/>
              </a:solidFill>
              <a:latin typeface="News Gothic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2265120" y="2020680"/>
            <a:ext cx="61102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1" marL="4478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2" marL="6717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3" marL="8960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4" marL="11199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5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6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News Gothic MT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7233-9FBF-433E-BC1F-509D359A9169}" type="datetime">
              <a:rPr b="0" lang="en-US" sz="2400" spc="-1" strike="noStrike">
                <a:solidFill>
                  <a:srgbClr val="000000"/>
                </a:solidFill>
                <a:latin typeface="News Gothic MT"/>
                <a:ea typeface="MS PGothic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8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9"/>
          </p:nvPr>
        </p:nvSpPr>
        <p:spPr>
          <a:xfrm>
            <a:off x="1752480" y="28782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News Gothic MT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6999-CE65-4E48-9BC2-DFBA814FE737}" type="slidenum">
              <a:rPr b="0" lang="en-US" sz="2400" spc="-1" strike="noStrike">
                <a:solidFill>
                  <a:srgbClr val="000000"/>
                </a:solidFill>
                <a:latin typeface="News Gothic MT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5"/>
          <p:cNvGrpSpPr/>
          <p:nvPr/>
        </p:nvGrpSpPr>
        <p:grpSpPr>
          <a:xfrm>
            <a:off x="2071800" y="2503440"/>
            <a:ext cx="1466640" cy="1676520"/>
            <a:chOff x="2071800" y="2503440"/>
            <a:chExt cx="1466640" cy="1676520"/>
          </a:xfrm>
        </p:grpSpPr>
        <p:sp>
          <p:nvSpPr>
            <p:cNvPr id="78" name="Oval 8"/>
            <p:cNvSpPr/>
            <p:nvPr/>
          </p:nvSpPr>
          <p:spPr>
            <a:xfrm>
              <a:off x="2071800" y="2503440"/>
              <a:ext cx="1466640" cy="9525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9"/>
            <p:cNvSpPr/>
            <p:nvPr/>
          </p:nvSpPr>
          <p:spPr>
            <a:xfrm>
              <a:off x="2787480" y="3473640"/>
              <a:ext cx="612720" cy="4096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0"/>
            <p:cNvSpPr/>
            <p:nvPr/>
          </p:nvSpPr>
          <p:spPr>
            <a:xfrm>
              <a:off x="2752560" y="3910320"/>
              <a:ext cx="398160" cy="2696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1"/>
            <p:cNvSpPr/>
            <p:nvPr/>
          </p:nvSpPr>
          <p:spPr>
            <a:xfrm>
              <a:off x="2481120" y="3016080"/>
              <a:ext cx="630000" cy="40788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ound Same Side Corner Rectangle 12"/>
          <p:cNvSpPr/>
          <p:nvPr/>
        </p:nvSpPr>
        <p:spPr>
          <a:xfrm flipH="1" rot="5400000">
            <a:off x="4786920" y="1387800"/>
            <a:ext cx="3475080" cy="3905280"/>
          </a:xfrm>
          <a:custGeom>
            <a:avLst/>
            <a:gdLst/>
            <a:ahLst/>
            <a:rect l="l" t="t" r="r" b="b"/>
            <a:pathLst>
              <a:path w="3475038" h="3905250">
                <a:moveTo>
                  <a:pt x="108491" y="0"/>
                </a:moveTo>
                <a:lnTo>
                  <a:pt x="3366547" y="0"/>
                </a:lnTo>
                <a:cubicBezTo>
                  <a:pt x="3426465" y="0"/>
                  <a:pt x="3475038" y="48573"/>
                  <a:pt x="3475038" y="108491"/>
                </a:cubicBezTo>
                <a:lnTo>
                  <a:pt x="3475038" y="3905250"/>
                </a:lnTo>
                <a:lnTo>
                  <a:pt x="3475038" y="3905250"/>
                </a:lnTo>
                <a:lnTo>
                  <a:pt x="0" y="3905250"/>
                </a:lnTo>
                <a:lnTo>
                  <a:pt x="0" y="3905250"/>
                </a:lnTo>
                <a:lnTo>
                  <a:pt x="0" y="108491"/>
                </a:lnTo>
                <a:cubicBezTo>
                  <a:pt x="0" y="48573"/>
                  <a:pt x="48573" y="0"/>
                  <a:pt x="108491" y="0"/>
                </a:cubicBezTo>
                <a:close/>
              </a:path>
            </a:pathLst>
          </a:custGeom>
          <a:solidFill>
            <a:srgbClr val="003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Icone Protection green.JPG"/>
          <p:cNvPicPr/>
          <p:nvPr/>
        </p:nvPicPr>
        <p:blipFill>
          <a:blip r:embed="rId2"/>
          <a:stretch/>
        </p:blipFill>
        <p:spPr>
          <a:xfrm>
            <a:off x="270000" y="1112760"/>
            <a:ext cx="4381200" cy="4381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972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1" marL="37944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2" marL="56916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3" marL="75888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4" marL="94860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5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6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icone charter blue.JPG"/>
          <p:cNvPicPr/>
          <p:nvPr/>
        </p:nvPicPr>
        <p:blipFill>
          <a:blip r:embed="rId2"/>
          <a:stretch/>
        </p:blipFill>
        <p:spPr>
          <a:xfrm>
            <a:off x="457200" y="187020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Icone Protection green.JPG"/>
          <p:cNvPicPr/>
          <p:nvPr/>
        </p:nvPicPr>
        <p:blipFill>
          <a:blip r:embed="rId3"/>
          <a:stretch/>
        </p:blipFill>
        <p:spPr>
          <a:xfrm>
            <a:off x="457200" y="1800360"/>
            <a:ext cx="1103400" cy="1103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972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1" marL="37944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2" marL="56916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3" marL="75888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4" marL="94860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5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6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5"/>
          <p:cNvGrpSpPr/>
          <p:nvPr/>
        </p:nvGrpSpPr>
        <p:grpSpPr>
          <a:xfrm>
            <a:off x="2071800" y="1843200"/>
            <a:ext cx="1466640" cy="1676160"/>
            <a:chOff x="2071800" y="1843200"/>
            <a:chExt cx="1466640" cy="1676160"/>
          </a:xfrm>
        </p:grpSpPr>
        <p:sp>
          <p:nvSpPr>
            <p:cNvPr id="163" name="Oval 26"/>
            <p:cNvSpPr/>
            <p:nvPr/>
          </p:nvSpPr>
          <p:spPr>
            <a:xfrm>
              <a:off x="2071800" y="1843200"/>
              <a:ext cx="1466640" cy="9525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7"/>
            <p:cNvSpPr/>
            <p:nvPr/>
          </p:nvSpPr>
          <p:spPr>
            <a:xfrm>
              <a:off x="2787480" y="2813040"/>
              <a:ext cx="612720" cy="40932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8"/>
            <p:cNvSpPr/>
            <p:nvPr/>
          </p:nvSpPr>
          <p:spPr>
            <a:xfrm>
              <a:off x="2752560" y="3249720"/>
              <a:ext cx="398160" cy="2696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9"/>
            <p:cNvSpPr/>
            <p:nvPr/>
          </p:nvSpPr>
          <p:spPr>
            <a:xfrm>
              <a:off x="2481120" y="2355840"/>
              <a:ext cx="630000" cy="40788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Picture 9" descr="Icone Protection green.JPG"/>
          <p:cNvPicPr/>
          <p:nvPr/>
        </p:nvPicPr>
        <p:blipFill>
          <a:blip r:embed="rId2"/>
          <a:stretch/>
        </p:blipFill>
        <p:spPr>
          <a:xfrm>
            <a:off x="530280" y="343080"/>
            <a:ext cx="2620800" cy="2620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972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1" marL="37944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2" marL="56916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3" marL="75888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4" marL="94860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5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6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6"/>
          <p:cNvGrpSpPr/>
          <p:nvPr/>
        </p:nvGrpSpPr>
        <p:grpSpPr>
          <a:xfrm>
            <a:off x="222120" y="1254240"/>
            <a:ext cx="7893360" cy="3919320"/>
            <a:chOff x="222120" y="1254240"/>
            <a:chExt cx="7893360" cy="3919320"/>
          </a:xfrm>
        </p:grpSpPr>
        <p:sp>
          <p:nvSpPr>
            <p:cNvPr id="207" name="Rounded Rectangle 6"/>
            <p:cNvSpPr/>
            <p:nvPr/>
          </p:nvSpPr>
          <p:spPr>
            <a:xfrm>
              <a:off x="1028520" y="1600200"/>
              <a:ext cx="7086960" cy="3475080"/>
            </a:xfrm>
            <a:prstGeom prst="roundRect">
              <a:avLst>
                <a:gd name="adj" fmla="val 3120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9"/>
            <p:cNvGrpSpPr/>
            <p:nvPr/>
          </p:nvGrpSpPr>
          <p:grpSpPr>
            <a:xfrm>
              <a:off x="222120" y="1254240"/>
              <a:ext cx="3429000" cy="3919320"/>
              <a:chOff x="222120" y="1254240"/>
              <a:chExt cx="3429000" cy="3919320"/>
            </a:xfrm>
          </p:grpSpPr>
          <p:sp>
            <p:nvSpPr>
              <p:cNvPr id="209" name="Oval 10"/>
              <p:cNvSpPr/>
              <p:nvPr/>
            </p:nvSpPr>
            <p:spPr>
              <a:xfrm>
                <a:off x="222120" y="1254240"/>
                <a:ext cx="3429000" cy="22255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12"/>
              <p:cNvSpPr/>
              <p:nvPr/>
            </p:nvSpPr>
            <p:spPr>
              <a:xfrm>
                <a:off x="1895400" y="3522600"/>
                <a:ext cx="1433520" cy="95544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14"/>
              <p:cNvSpPr/>
              <p:nvPr/>
            </p:nvSpPr>
            <p:spPr>
              <a:xfrm>
                <a:off x="1814400" y="4543560"/>
                <a:ext cx="931680" cy="630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15"/>
              <p:cNvSpPr/>
              <p:nvPr/>
            </p:nvSpPr>
            <p:spPr>
              <a:xfrm>
                <a:off x="1177560" y="2452680"/>
                <a:ext cx="1476360" cy="95544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972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1" marL="37944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2" marL="56916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3" marL="75888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4" marL="94860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5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6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2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FB8A3-3D32-4978-A9EF-FE2CE4492775}" type="slidenum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Icone Protection green.JPG"/>
          <p:cNvPicPr/>
          <p:nvPr/>
        </p:nvPicPr>
        <p:blipFill>
          <a:blip r:embed="rId2"/>
          <a:stretch/>
        </p:blipFill>
        <p:spPr>
          <a:xfrm>
            <a:off x="6972480" y="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972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1" marL="37944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2" marL="56916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3" marL="75888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4" marL="94860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5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6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Icone Protection green.JPG"/>
          <p:cNvPicPr/>
          <p:nvPr/>
        </p:nvPicPr>
        <p:blipFill>
          <a:blip r:embed="rId2"/>
          <a:stretch/>
        </p:blipFill>
        <p:spPr>
          <a:xfrm>
            <a:off x="6761160" y="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972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1" marL="37944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2" marL="56916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3" marL="75888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4" marL="94860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5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6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" descr="Icone Protection green.JPG"/>
          <p:cNvPicPr/>
          <p:nvPr/>
        </p:nvPicPr>
        <p:blipFill>
          <a:blip r:embed="rId2"/>
          <a:stretch/>
        </p:blipFill>
        <p:spPr>
          <a:xfrm>
            <a:off x="7157880" y="2286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972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1" marL="37944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2" marL="56916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3" marL="758880" indent="-1897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4" marL="948600" indent="-1897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5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lvl="6" marL="948600" indent="-1897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phereproject.org/sphere/es/capacitacion/curso-virtual-esfera/" TargetMode="External"/><Relationship Id="rId2" Type="http://schemas.openxmlformats.org/officeDocument/2006/relationships/hyperlink" Target="http://www.youtube.com/watch?v=76weERD_MoY&amp;list=UUit_n_tODtaAdnSRB5aVcDw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1"/>
          <p:cNvSpPr/>
          <p:nvPr/>
        </p:nvSpPr>
        <p:spPr>
          <a:xfrm>
            <a:off x="701640" y="1249200"/>
            <a:ext cx="836928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haroni"/>
                <a:ea typeface="Times New Roman"/>
              </a:rPr>
              <a:t>NOTA IMPORTANTE PARA LOS CAPACITADO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Esta sesión tendrá que ser adaptada</a:t>
            </a:r>
            <a:r>
              <a:rPr b="0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 a cada caso (en función del contexto, por ejemplo, si se trata de una situación de conflicto, terremoto, respuesta a un ciclón, crisis progresiva o repentina, etc.), a las necesidades (conocimientos y comprensión de Esfera en ese momento), al tiempo dispon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Cuando imparta una capacitación con este material, subraye en sus mensajes clave que </a:t>
            </a:r>
            <a:r>
              <a:rPr b="1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para aplicar el Manual Esfera es necesario realizar un análisis exhaustivo del contex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El Manual está esencialmente diseñado como una herramienta que ayuda a reconocer los distintos contextos y adaptar los programas de respuesta en consecuenc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Los indicadores y las acciones clave de Esfera siempre deberán interpretarse y entenderse en el contexto de la emergencia en cuest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Se deben adaptar cuidadosamente los indicadores y las acciones clave al contexto local, manteniendo el espíritu de las normas mínimas. Las notas de orientación ayudan a aplicarlas y adaptarlas adecuada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Cumplir las normas mínimas de Esfera no significa necesariamente cumplir la totalidad de las normas y los indicadores. Incluso cuando no se puedan respetar algunas normas o se tengan que adaptar los indicadores, la organización podrá respetar Esfera si describe y explica la diferencia a las partes interesadas, evalúa las implicaciones negativas y tomas las medidas de mitigación adecuadas a fin de minimizar los daños para la población afectad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Véase también el ejercicio “Conformidad con las normas de Esfera” en el módulo  “Los aspectos esenciales de Esfera”, (pantalla 17 de 21), en el curso virtual, “ El</a:t>
            </a:r>
            <a:r>
              <a:rPr b="0" lang="es-ES" sz="1200" spc="-1" strike="noStrike" u="sng">
                <a:solidFill>
                  <a:srgbClr val="ffc000"/>
                </a:solidFill>
                <a:uFillTx/>
                <a:latin typeface="Aharoni"/>
                <a:ea typeface="Times New Roman"/>
                <a:hlinkClick r:id="rId1"/>
              </a:rPr>
              <a:t> Manual Esfera en acción</a:t>
            </a:r>
            <a:r>
              <a:rPr b="0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Encontrará información útil acerca de cómo utilizar Esfera en función del contexto en el video </a:t>
            </a:r>
            <a:r>
              <a:rPr b="0" lang="es-ES" sz="1200" spc="-1" strike="noStrike" u="sng">
                <a:solidFill>
                  <a:srgbClr val="ffc000"/>
                </a:solidFill>
                <a:uFillTx/>
                <a:latin typeface="Aharoni"/>
                <a:ea typeface="Times New Roman"/>
                <a:hlinkClick r:id="rId2"/>
              </a:rPr>
              <a:t>Normas humanitarias puestas en contexto </a:t>
            </a:r>
            <a:r>
              <a:rPr b="0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y su guía en la que aparece un plan de sesión para capacitad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3" descr=""/>
          <p:cNvPicPr/>
          <p:nvPr/>
        </p:nvPicPr>
        <p:blipFill>
          <a:blip r:embed="rId3"/>
          <a:stretch/>
        </p:blipFill>
        <p:spPr>
          <a:xfrm>
            <a:off x="3840120" y="109440"/>
            <a:ext cx="18716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6"/>
                </a:solidFill>
                <a:latin typeface="News Gothic MT"/>
                <a:ea typeface="MS PGothic"/>
              </a:rPr>
              <a:t>El Marco Legal</a:t>
            </a:r>
            <a:endParaRPr b="0" lang="en-US" sz="40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67" name="Text Box 3"/>
          <p:cNvSpPr/>
          <p:nvPr/>
        </p:nvSpPr>
        <p:spPr>
          <a:xfrm>
            <a:off x="1592280" y="16812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  <a:ea typeface="MS PGothic"/>
              </a:rPr>
              <a:t>Disposiciones del derech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4"/>
          <p:cNvSpPr/>
          <p:nvPr/>
        </p:nvSpPr>
        <p:spPr>
          <a:xfrm>
            <a:off x="5478480" y="7048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  <a:ea typeface="MS PGothic"/>
              </a:rPr>
              <a:t>Derecho Internacional Huma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5"/>
          <p:cNvSpPr/>
          <p:nvPr/>
        </p:nvSpPr>
        <p:spPr>
          <a:xfrm>
            <a:off x="5478480" y="2281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  <a:ea typeface="MS PGothic"/>
              </a:rPr>
              <a:t>Legislación internacional sobre refug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7"/>
          <p:cNvSpPr/>
          <p:nvPr/>
        </p:nvSpPr>
        <p:spPr>
          <a:xfrm rot="10800000">
            <a:off x="4533480" y="490680"/>
            <a:ext cx="838440" cy="2990880"/>
          </a:xfrm>
          <a:custGeom>
            <a:avLst/>
            <a:gdLst>
              <a:gd name="textAreaLeft" fmla="*/ 0 w 838440"/>
              <a:gd name="textAreaRight" fmla="*/ 302760 w 838440"/>
              <a:gd name="textAreaTop" fmla="*/ 131040 h 2990880"/>
              <a:gd name="textAreaBottom" fmla="*/ 2859840 h 299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14"/>
                  <a:pt x="10800" y="3027"/>
                </a:cubicBezTo>
                <a:lnTo>
                  <a:pt x="10800" y="7773"/>
                </a:lnTo>
                <a:cubicBezTo>
                  <a:pt x="10800" y="9287"/>
                  <a:pt x="16200" y="10800"/>
                  <a:pt x="21600" y="10800"/>
                </a:cubicBezTo>
                <a:cubicBezTo>
                  <a:pt x="16200" y="10800"/>
                  <a:pt x="10800" y="12314"/>
                  <a:pt x="10800" y="13827"/>
                </a:cubicBezTo>
                <a:lnTo>
                  <a:pt x="10800" y="18573"/>
                </a:lnTo>
                <a:cubicBezTo>
                  <a:pt x="10800" y="20087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83b8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9"/>
          <p:cNvSpPr/>
          <p:nvPr/>
        </p:nvSpPr>
        <p:spPr>
          <a:xfrm>
            <a:off x="1592280" y="45417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ws Gothic MT"/>
                <a:ea typeface="MS PGothic"/>
              </a:rPr>
              <a:t>Legislación 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Cruz 10"/>
          <p:cNvGrpSpPr/>
          <p:nvPr/>
        </p:nvGrpSpPr>
        <p:grpSpPr>
          <a:xfrm>
            <a:off x="2206800" y="3462480"/>
            <a:ext cx="718920" cy="731520"/>
            <a:chOff x="2206800" y="3462480"/>
            <a:chExt cx="718920" cy="731520"/>
          </a:xfrm>
        </p:grpSpPr>
        <p:pic>
          <p:nvPicPr>
            <p:cNvPr id="973" name="Cruz 10" descr=""/>
            <p:cNvPicPr/>
            <p:nvPr/>
          </p:nvPicPr>
          <p:blipFill>
            <a:blip r:embed="rId1"/>
            <a:stretch/>
          </p:blipFill>
          <p:spPr>
            <a:xfrm>
              <a:off x="2206800" y="3462480"/>
              <a:ext cx="71892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"/>
            <p:cNvSpPr/>
            <p:nvPr/>
          </p:nvSpPr>
          <p:spPr>
            <a:xfrm>
              <a:off x="2398680" y="3481560"/>
              <a:ext cx="3380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Anillo 11"/>
          <p:cNvGrpSpPr/>
          <p:nvPr/>
        </p:nvGrpSpPr>
        <p:grpSpPr>
          <a:xfrm>
            <a:off x="1249200" y="1206360"/>
            <a:ext cx="3316320" cy="2146320"/>
            <a:chOff x="1249200" y="1206360"/>
            <a:chExt cx="3316320" cy="2146320"/>
          </a:xfrm>
        </p:grpSpPr>
        <p:pic>
          <p:nvPicPr>
            <p:cNvPr id="976" name="Anillo 11" descr=""/>
            <p:cNvPicPr/>
            <p:nvPr/>
          </p:nvPicPr>
          <p:blipFill>
            <a:blip r:embed="rId2"/>
            <a:stretch/>
          </p:blipFill>
          <p:spPr>
            <a:xfrm>
              <a:off x="1249200" y="1206360"/>
              <a:ext cx="331632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749600" y="1538280"/>
              <a:ext cx="23158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731052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76"/>
                </a:solidFill>
                <a:latin typeface="Verdana"/>
              </a:rPr>
              <a:t>Disposiciones internacionales para la Protección</a:t>
            </a:r>
            <a:endParaRPr b="0" lang="en-US" sz="36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1622160" y="2020680"/>
            <a:ext cx="675324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4040"/>
                </a:solidFill>
                <a:latin typeface="News Gothic MT"/>
              </a:rPr>
              <a:t>Principios rectores de los desplazamientos internos</a:t>
            </a:r>
            <a:endParaRPr b="0" lang="en-US" sz="3600" spc="-1" strike="noStrike">
              <a:solidFill>
                <a:srgbClr val="404040"/>
              </a:solidFill>
              <a:latin typeface="News Gothic MT"/>
            </a:endParaRPr>
          </a:p>
          <a:p>
            <a:pPr marL="447840" indent="-447840">
              <a:lnSpc>
                <a:spcPct val="9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4040"/>
                </a:solidFill>
                <a:latin typeface="News Gothic MT"/>
              </a:rPr>
              <a:t>Derecho consuetudinario</a:t>
            </a:r>
            <a:endParaRPr b="0" lang="en-US" sz="3600" spc="-1" strike="noStrike">
              <a:solidFill>
                <a:srgbClr val="404040"/>
              </a:solidFill>
              <a:latin typeface="News Gothic MT"/>
            </a:endParaRPr>
          </a:p>
          <a:p>
            <a:pPr marL="447840" indent="-447840">
              <a:lnSpc>
                <a:spcPct val="9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4040"/>
                </a:solidFill>
                <a:latin typeface="News Gothic MT"/>
              </a:rPr>
              <a:t>Resoluciones del Consejo de Seguridad</a:t>
            </a:r>
            <a:endParaRPr b="0" lang="en-US" sz="3600" spc="-1" strike="noStrike">
              <a:solidFill>
                <a:srgbClr val="404040"/>
              </a:solidFill>
              <a:latin typeface="News Gothic MT"/>
            </a:endParaRPr>
          </a:p>
          <a:p>
            <a:pPr marL="447840" indent="-447840">
              <a:lnSpc>
                <a:spcPct val="9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4040"/>
                </a:solidFill>
                <a:latin typeface="News Gothic MT"/>
              </a:rPr>
              <a:t>Decisiones de tribunales internacionales</a:t>
            </a:r>
            <a:endParaRPr b="0" lang="en-US" sz="3600" spc="-1" strike="noStrike">
              <a:solidFill>
                <a:srgbClr val="404040"/>
              </a:solidFill>
              <a:latin typeface="News Gothic MT"/>
            </a:endParaRPr>
          </a:p>
          <a:p>
            <a:pPr marL="447840" indent="-447840">
              <a:lnSpc>
                <a:spcPct val="9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69560" y="482760"/>
            <a:ext cx="7196040" cy="1287360"/>
          </a:xfrm>
          <a:prstGeom prst="rect">
            <a:avLst/>
          </a:prstGeom>
          <a:noFill/>
          <a:ln w="0">
            <a:noFill/>
          </a:ln>
        </p:spPr>
        <p:txBody>
          <a:bodyPr l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76"/>
                </a:solidFill>
                <a:latin typeface="News Gothic MT"/>
              </a:rPr>
              <a:t>Principios de protección de civiles</a:t>
            </a:r>
            <a:endParaRPr b="0" lang="en-US" sz="36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81" name="Subtitle 3"/>
          <p:cNvSpPr/>
          <p:nvPr/>
        </p:nvSpPr>
        <p:spPr>
          <a:xfrm>
            <a:off x="3668760" y="2093760"/>
            <a:ext cx="511344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d76"/>
                </a:solidFill>
                <a:latin typeface="News Gothic MT"/>
                <a:ea typeface="MS PGothic"/>
              </a:rPr>
              <a:t>Distinción entre civiles y combat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d76"/>
                </a:solidFill>
                <a:latin typeface="News Gothic MT"/>
                <a:ea typeface="MS PGothic"/>
              </a:rPr>
              <a:t>Proporcionalidad en el uso de la fuer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d76"/>
                </a:solidFill>
                <a:latin typeface="News Gothic MT"/>
                <a:ea typeface="MS PGothic"/>
              </a:rPr>
              <a:t>Precaución en los ata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Imagen 4" descr=""/>
          <p:cNvPicPr/>
          <p:nvPr/>
        </p:nvPicPr>
        <p:blipFill>
          <a:blip r:embed="rId1"/>
          <a:stretch/>
        </p:blipFill>
        <p:spPr>
          <a:xfrm>
            <a:off x="169920" y="2271600"/>
            <a:ext cx="330336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993240" y="316080"/>
            <a:ext cx="4365720" cy="885600"/>
          </a:xfrm>
          <a:prstGeom prst="rect">
            <a:avLst/>
          </a:prstGeom>
          <a:noFill/>
          <a:ln w="0">
            <a:noFill/>
          </a:ln>
        </p:spPr>
        <p:txBody>
          <a:bodyPr l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76"/>
                </a:solidFill>
                <a:latin typeface="News Gothic MT"/>
              </a:rPr>
              <a:t>Fuentes de DIH</a:t>
            </a:r>
            <a:endParaRPr b="0" lang="en-US" sz="36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5091120" y="1482840"/>
            <a:ext cx="3703680" cy="5005440"/>
          </a:xfrm>
          <a:prstGeom prst="rect">
            <a:avLst/>
          </a:prstGeom>
          <a:noFill/>
          <a:ln w="0">
            <a:noFill/>
          </a:ln>
        </p:spPr>
        <p:txBody>
          <a:bodyPr lIns="45720" anchor="t">
            <a:normAutofit/>
          </a:bodyPr>
          <a:p>
            <a:pPr>
              <a:lnSpc>
                <a:spcPct val="9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040"/>
                </a:solidFill>
                <a:latin typeface="News Gothic MT"/>
                <a:ea typeface="MS PGothic"/>
              </a:rPr>
              <a:t>4 Convenios de Ginebra 1949 (tierra, mar, prisioneros, civiles)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040"/>
                </a:solidFill>
                <a:latin typeface="News Gothic MT"/>
                <a:ea typeface="MS PGothic"/>
              </a:rPr>
              <a:t>2 Protocolos Adicionales 1977 (conflicto internacional y conflicto no internacional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040"/>
                </a:solidFill>
                <a:latin typeface="News Gothic MT"/>
                <a:ea typeface="MS PGothic"/>
              </a:rPr>
              <a:t>Artículo común 3: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buClr>
                <a:srgbClr val="bacc82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040"/>
                </a:solidFill>
                <a:latin typeface="News Gothic MT"/>
                <a:ea typeface="MS PGothic"/>
              </a:rPr>
              <a:t> </a:t>
            </a:r>
            <a:r>
              <a:rPr b="0" lang="es-ES_tradnl" sz="2200" spc="-1" strike="noStrike">
                <a:solidFill>
                  <a:srgbClr val="404040"/>
                </a:solidFill>
                <a:latin typeface="News Gothic MT"/>
                <a:ea typeface="MS PGothic"/>
              </a:rPr>
              <a:t>Idéntico en los 4 Convenios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buClr>
                <a:srgbClr val="bacc82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040"/>
                </a:solidFill>
                <a:latin typeface="News Gothic MT"/>
                <a:ea typeface="MS PGothic"/>
              </a:rPr>
              <a:t> </a:t>
            </a:r>
            <a:r>
              <a:rPr b="0" lang="es-ES_tradnl" sz="2200" spc="-1" strike="noStrike">
                <a:solidFill>
                  <a:srgbClr val="404040"/>
                </a:solidFill>
                <a:latin typeface="News Gothic MT"/>
                <a:ea typeface="MS PGothic"/>
              </a:rPr>
              <a:t>Es un “mini-convenio” para conflictos armados no internacionales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</p:txBody>
      </p:sp>
      <p:pic>
        <p:nvPicPr>
          <p:cNvPr id="985" name="Imagen 6" descr=""/>
          <p:cNvPicPr/>
          <p:nvPr/>
        </p:nvPicPr>
        <p:blipFill>
          <a:blip r:embed="rId1"/>
          <a:stretch/>
        </p:blipFill>
        <p:spPr>
          <a:xfrm>
            <a:off x="762120" y="1482840"/>
            <a:ext cx="420516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09680" y="926640"/>
            <a:ext cx="6688080" cy="887400"/>
          </a:xfrm>
          <a:prstGeom prst="rect">
            <a:avLst/>
          </a:prstGeom>
          <a:noFill/>
          <a:ln w="0">
            <a:noFill/>
          </a:ln>
        </p:spPr>
        <p:txBody>
          <a:bodyPr l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d76"/>
                </a:solidFill>
                <a:latin typeface="News Gothic MT"/>
              </a:rPr>
              <a:t>Principios de protección para personas desplazadas y refugiadas</a:t>
            </a:r>
            <a:endParaRPr b="0" lang="en-US" sz="36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752400" y="1600200"/>
            <a:ext cx="3703680" cy="4525920"/>
          </a:xfrm>
          <a:prstGeom prst="rect">
            <a:avLst/>
          </a:prstGeom>
          <a:noFill/>
          <a:ln w="0">
            <a:noFill/>
          </a:ln>
        </p:spPr>
        <p:txBody>
          <a:bodyPr lIns="4572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4660920" y="2160720"/>
            <a:ext cx="3703680" cy="4525920"/>
          </a:xfrm>
          <a:prstGeom prst="rect">
            <a:avLst/>
          </a:prstGeom>
          <a:noFill/>
          <a:ln w="0">
            <a:noFill/>
          </a:ln>
        </p:spPr>
        <p:txBody>
          <a:bodyPr lIns="4572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d76"/>
                </a:solidFill>
                <a:latin typeface="News Gothic MT"/>
                <a:ea typeface="MS PGothic"/>
              </a:rPr>
              <a:t>Derecho a buscar asilo o refugio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d76"/>
                </a:solidFill>
                <a:latin typeface="News Gothic MT"/>
                <a:ea typeface="MS PGothic"/>
              </a:rPr>
              <a:t>Principio de no devolución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</p:txBody>
      </p:sp>
      <p:pic>
        <p:nvPicPr>
          <p:cNvPr id="989" name="Imagen 4" descr=""/>
          <p:cNvPicPr/>
          <p:nvPr/>
        </p:nvPicPr>
        <p:blipFill>
          <a:blip r:embed="rId1"/>
          <a:stretch/>
        </p:blipFill>
        <p:spPr>
          <a:xfrm>
            <a:off x="409680" y="2160720"/>
            <a:ext cx="400680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44120" y="482400"/>
            <a:ext cx="4800600" cy="887400"/>
          </a:xfrm>
          <a:prstGeom prst="rect">
            <a:avLst/>
          </a:prstGeom>
          <a:noFill/>
          <a:ln w="0">
            <a:noFill/>
          </a:ln>
        </p:spPr>
        <p:txBody>
          <a:bodyPr l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d76"/>
                </a:solidFill>
                <a:latin typeface="News Gothic MT"/>
              </a:rPr>
              <a:t>Fuentes legales</a:t>
            </a:r>
            <a:endParaRPr b="0" lang="en-US" sz="3600" spc="-1" strike="noStrike">
              <a:solidFill>
                <a:srgbClr val="749805"/>
              </a:solidFill>
              <a:latin typeface="News Gothic MT"/>
            </a:endParaRPr>
          </a:p>
        </p:txBody>
      </p:sp>
      <p:pic>
        <p:nvPicPr>
          <p:cNvPr id="991" name="Content Placeholder 5" descr="4134a9934.jpg"/>
          <p:cNvPicPr/>
          <p:nvPr/>
        </p:nvPicPr>
        <p:blipFill>
          <a:blip r:embed="rId1"/>
          <a:srcRect l="21817" t="0" r="21817" b="0"/>
          <a:stretch/>
        </p:blipFill>
        <p:spPr>
          <a:xfrm>
            <a:off x="752400" y="1600200"/>
            <a:ext cx="3703680" cy="4525920"/>
          </a:xfrm>
          <a:prstGeom prst="rect">
            <a:avLst/>
          </a:prstGeom>
          <a:ln w="0">
            <a:noFill/>
          </a:ln>
        </p:spPr>
      </p:pic>
      <p:sp>
        <p:nvSpPr>
          <p:cNvPr id="992" name="Content Placeholder 2"/>
          <p:cNvSpPr/>
          <p:nvPr/>
        </p:nvSpPr>
        <p:spPr>
          <a:xfrm>
            <a:off x="4984920" y="1600200"/>
            <a:ext cx="351144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t">
            <a:normAutofit/>
          </a:bodyPr>
          <a:p>
            <a:pPr lvl="2" marL="355680" indent="-355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  <a:tab algn="l" pos="4133880"/>
              </a:tabLst>
            </a:pPr>
            <a:r>
              <a:rPr b="0" lang="es-ES_tradnl" sz="2700" spc="-1" strike="noStrike">
                <a:solidFill>
                  <a:srgbClr val="404040"/>
                </a:solidFill>
                <a:latin typeface="News Gothic MT"/>
                <a:ea typeface="Arial"/>
              </a:rPr>
              <a:t>Convención sobre el Estatuto de los Refugiados (195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355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  <a:tab algn="l" pos="4133880"/>
              </a:tabLst>
            </a:pPr>
            <a:r>
              <a:rPr b="0" lang="es-ES_tradnl" sz="2700" spc="-1" strike="noStrike">
                <a:solidFill>
                  <a:srgbClr val="404040"/>
                </a:solidFill>
                <a:latin typeface="News Gothic MT"/>
                <a:ea typeface="Arial"/>
              </a:rPr>
              <a:t>Protocolo sobre el Estatuto de los Refugiados (196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355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  <a:tab algn="l" pos="4133880"/>
              </a:tabLst>
            </a:pPr>
            <a:r>
              <a:rPr b="0" lang="es-ES_tradnl" sz="2700" spc="-1" strike="noStrike">
                <a:solidFill>
                  <a:srgbClr val="404040"/>
                </a:solidFill>
                <a:latin typeface="News Gothic MT"/>
                <a:ea typeface="Arial"/>
              </a:rPr>
              <a:t>Convención de la OUA (196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355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  <a:tab algn="l" pos="4133880"/>
              </a:tabLst>
            </a:pPr>
            <a:r>
              <a:rPr b="0" lang="es-ES_tradnl" sz="2700" spc="-1" strike="noStrike">
                <a:solidFill>
                  <a:srgbClr val="404040"/>
                </a:solidFill>
                <a:latin typeface="News Gothic MT"/>
                <a:ea typeface="Arial"/>
              </a:rPr>
              <a:t>Declaración de Cartagena (198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355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  <a:tab algn="l" pos="4133880"/>
              </a:tabLst>
            </a:pPr>
            <a:r>
              <a:rPr b="0" lang="es-ES_tradnl" sz="2700" spc="-1" strike="noStrike">
                <a:solidFill>
                  <a:srgbClr val="404040"/>
                </a:solidFill>
                <a:latin typeface="News Gothic MT"/>
                <a:ea typeface="Arial"/>
              </a:rPr>
              <a:t>Etc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  <a:tab algn="l" pos="413388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6"/>
          <p:cNvSpPr/>
          <p:nvPr/>
        </p:nvSpPr>
        <p:spPr>
          <a:xfrm>
            <a:off x="2895480" y="304920"/>
            <a:ext cx="595152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99000"/>
          </a:bodyPr>
          <a:p>
            <a:pPr>
              <a:lnSpc>
                <a:spcPct val="100000"/>
              </a:lnSpc>
              <a:buClr>
                <a:srgbClr val="83b829"/>
              </a:buClr>
              <a:buSzPct val="2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3d76"/>
                </a:solidFill>
                <a:latin typeface="News Gothic MT"/>
                <a:ea typeface="MS PGothic"/>
              </a:rPr>
              <a:t> </a:t>
            </a:r>
            <a:r>
              <a:rPr b="0" lang="es-ES_tradnl" sz="2500" spc="-1" strike="noStrike">
                <a:solidFill>
                  <a:srgbClr val="003d76"/>
                </a:solidFill>
                <a:latin typeface="News Gothic MT"/>
                <a:ea typeface="MS PGothic"/>
              </a:rPr>
              <a:t>Organice 4 Grupos de trabaj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3b829"/>
              </a:buClr>
              <a:buSzPct val="2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3d76"/>
                </a:solidFill>
                <a:latin typeface="News Gothic MT"/>
                <a:ea typeface="MS PGothic"/>
              </a:rPr>
              <a:t> </a:t>
            </a:r>
            <a:r>
              <a:rPr b="0" lang="es-ES_tradnl" sz="2500" spc="-1" strike="noStrike">
                <a:solidFill>
                  <a:srgbClr val="003d76"/>
                </a:solidFill>
                <a:latin typeface="News Gothic MT"/>
                <a:ea typeface="MS PGothic"/>
              </a:rPr>
              <a:t>A cada Grupo distribuya un Principio de Protección (Pag. 3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3b829"/>
              </a:buClr>
              <a:buSzPct val="2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3d76"/>
                </a:solidFill>
                <a:latin typeface="News Gothic MT"/>
                <a:ea typeface="MS PGothic"/>
              </a:rPr>
              <a:t> </a:t>
            </a:r>
            <a:r>
              <a:rPr b="0" lang="es-ES_tradnl" sz="2500" spc="-1" strike="noStrike">
                <a:solidFill>
                  <a:srgbClr val="003d76"/>
                </a:solidFill>
                <a:latin typeface="News Gothic MT"/>
                <a:ea typeface="MS PGothic"/>
              </a:rPr>
              <a:t>Para los principios de protección asignados, analice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3b829"/>
              </a:buClr>
              <a:buSzPct val="2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3b829"/>
              </a:buClr>
              <a:buSzPct val="209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3d76"/>
                </a:solidFill>
                <a:latin typeface="News Gothic MT"/>
                <a:ea typeface="MS PGothic"/>
              </a:rPr>
              <a:t>¿Cómo se aplicó durante la emergencia priorizada (12 E)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3b829"/>
              </a:buClr>
              <a:buSzPct val="209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3b829"/>
              </a:buClr>
              <a:buSzPct val="209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3d76"/>
                </a:solidFill>
                <a:latin typeface="News Gothic MT"/>
                <a:ea typeface="MS PGothic"/>
              </a:rPr>
              <a:t>Si no se aplicó, ¿por qué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3b829"/>
              </a:buClr>
              <a:buSzPct val="209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6880" y="4457520"/>
            <a:ext cx="8091720" cy="17730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6"/>
                </a:solidFill>
                <a:latin typeface="News Gothic MT"/>
              </a:rPr>
              <a:t>¡Usen sus manuales! Tienen 25’ para discutir. </a:t>
            </a:r>
            <a:br>
              <a:rPr sz="2400"/>
            </a:br>
            <a:r>
              <a:rPr b="0" lang="en-US" sz="2400" spc="-1" strike="noStrike">
                <a:solidFill>
                  <a:srgbClr val="003d76"/>
                </a:solidFill>
                <a:latin typeface="News Gothic MT"/>
              </a:rPr>
              <a:t>Luego, cada grupo presenta en plenaria el resultado de su análisis </a:t>
            </a:r>
            <a:endParaRPr b="0" lang="en-US" sz="24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95" name="Subtitle 3"/>
          <p:cNvSpPr/>
          <p:nvPr/>
        </p:nvSpPr>
        <p:spPr>
          <a:xfrm>
            <a:off x="687240" y="3022560"/>
            <a:ext cx="306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6"/>
                </a:solidFill>
                <a:latin typeface="News Gothic MT"/>
                <a:ea typeface="Arial"/>
              </a:rPr>
              <a:t>Ta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ubtitle 3"/>
          <p:cNvSpPr/>
          <p:nvPr/>
        </p:nvSpPr>
        <p:spPr>
          <a:xfrm>
            <a:off x="687240" y="3022560"/>
            <a:ext cx="306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4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6"/>
                </a:solidFill>
                <a:latin typeface="News Gothic MT"/>
                <a:ea typeface="Arial"/>
              </a:rPr>
              <a:t>Revisió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6"/>
                </a:solidFill>
                <a:latin typeface="News Gothic MT"/>
                <a:ea typeface="Arial"/>
              </a:rPr>
              <a:t>de O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10 Diagrama" descr=""/>
          <p:cNvPicPr/>
          <p:nvPr/>
        </p:nvPicPr>
        <p:blipFill>
          <a:blip r:embed="rId1"/>
          <a:stretch/>
        </p:blipFill>
        <p:spPr>
          <a:xfrm>
            <a:off x="3333600" y="628560"/>
            <a:ext cx="56278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Subtitle 3"/>
          <p:cNvSpPr/>
          <p:nvPr/>
        </p:nvSpPr>
        <p:spPr>
          <a:xfrm>
            <a:off x="3087720" y="952560"/>
            <a:ext cx="567540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6"/>
                </a:solidFill>
                <a:latin typeface="News Gothic MT"/>
                <a:ea typeface="Arial"/>
              </a:rPr>
              <a:t>y ahora, con ustedes damas y caballer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6 Cara sonriente"/>
          <p:cNvGrpSpPr/>
          <p:nvPr/>
        </p:nvGrpSpPr>
        <p:grpSpPr>
          <a:xfrm>
            <a:off x="2535120" y="2249640"/>
            <a:ext cx="4262400" cy="4279680"/>
            <a:chOff x="2535120" y="2249640"/>
            <a:chExt cx="4262400" cy="4279680"/>
          </a:xfrm>
        </p:grpSpPr>
        <p:pic>
          <p:nvPicPr>
            <p:cNvPr id="1000" name="6 Cara sonriente" descr=""/>
            <p:cNvPicPr/>
            <p:nvPr/>
          </p:nvPicPr>
          <p:blipFill>
            <a:blip r:embed="rId1"/>
            <a:stretch/>
          </p:blipFill>
          <p:spPr>
            <a:xfrm>
              <a:off x="2535120" y="2249640"/>
              <a:ext cx="4262400" cy="42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1" name=""/>
            <p:cNvSpPr/>
            <p:nvPr/>
          </p:nvSpPr>
          <p:spPr>
            <a:xfrm>
              <a:off x="3198960" y="2916360"/>
              <a:ext cx="2936880" cy="29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BO" sz="3600" spc="-1" strike="noStrike">
                  <a:solidFill>
                    <a:srgbClr val="000000"/>
                  </a:solidFill>
                  <a:latin typeface="News Gothic MT"/>
                </a:rPr>
                <a:t>La comisión de la alegrí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651200" y="1680840"/>
            <a:ext cx="3786480" cy="16398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News Gothic MT"/>
              </a:rPr>
              <a:t>Principios de Protección</a:t>
            </a:r>
            <a:endParaRPr b="0" lang="en-US" sz="40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651200" y="3889440"/>
            <a:ext cx="3786480" cy="768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s Gothic MT"/>
              </a:rPr>
              <a:t>El Salvador</a:t>
            </a:r>
            <a:endParaRPr b="0" lang="en-US" sz="2000" spc="-1" strike="noStrike">
              <a:solidFill>
                <a:srgbClr val="404040"/>
              </a:solidFill>
              <a:latin typeface="News Gothic MT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News Gothic MT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s Gothic MT"/>
              </a:rPr>
              <a:t>Capacitador: Martín Villarroel</a:t>
            </a:r>
            <a:endParaRPr b="0" lang="en-US" sz="20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6"/>
                </a:solidFill>
                <a:latin typeface="News Gothic MT"/>
              </a:rPr>
              <a:t>¿Dignidad?</a:t>
            </a:r>
            <a:endParaRPr b="0" lang="en-US" sz="40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83b8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040"/>
                </a:solidFill>
                <a:latin typeface="News Gothic MT"/>
              </a:rPr>
              <a:t>Autonomía y auto-determinación</a:t>
            </a:r>
            <a:endParaRPr b="0" lang="en-US" sz="2600" spc="-1" strike="noStrike">
              <a:solidFill>
                <a:srgbClr val="404040"/>
              </a:solidFill>
              <a:latin typeface="News Gothic MT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83b8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040"/>
                </a:solidFill>
                <a:latin typeface="News Gothic MT"/>
              </a:rPr>
              <a:t>Consentimiento informado y confidencialidad</a:t>
            </a:r>
            <a:endParaRPr b="0" lang="en-US" sz="2600" spc="-1" strike="noStrike">
              <a:solidFill>
                <a:srgbClr val="404040"/>
              </a:solidFill>
              <a:latin typeface="News Gothic MT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83b8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040"/>
                </a:solidFill>
                <a:latin typeface="News Gothic MT"/>
              </a:rPr>
              <a:t>Reconocimiento de características culturales</a:t>
            </a:r>
            <a:endParaRPr b="0" lang="en-US" sz="2600" spc="-1" strike="noStrike">
              <a:solidFill>
                <a:srgbClr val="404040"/>
              </a:solidFill>
              <a:latin typeface="News Gothic MT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83b8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040"/>
                </a:solidFill>
                <a:latin typeface="News Gothic MT"/>
              </a:rPr>
              <a:t>Posibilidad de participar en toma de decisiones y programas</a:t>
            </a:r>
            <a:endParaRPr b="0" lang="en-US" sz="2600" spc="-1" strike="noStrike">
              <a:solidFill>
                <a:srgbClr val="404040"/>
              </a:solidFill>
              <a:latin typeface="News Gothic MT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83b8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040"/>
                </a:solidFill>
                <a:latin typeface="News Gothic MT"/>
              </a:rPr>
              <a:t>Respuesta coordinada para asegurar que todas las necesidades se satisfacen</a:t>
            </a:r>
            <a:endParaRPr b="0" lang="en-US" sz="2600" spc="-1" strike="noStrike">
              <a:solidFill>
                <a:srgbClr val="404040"/>
              </a:solidFill>
              <a:latin typeface="News Gothic MT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83b8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News Gothic MT"/>
            </a:endParaRPr>
          </a:p>
        </p:txBody>
      </p:sp>
      <p:pic>
        <p:nvPicPr>
          <p:cNvPr id="949" name="Imagen 7" descr=""/>
          <p:cNvPicPr/>
          <p:nvPr/>
        </p:nvPicPr>
        <p:blipFill>
          <a:blip r:embed="rId1"/>
          <a:stretch/>
        </p:blipFill>
        <p:spPr>
          <a:xfrm>
            <a:off x="6505560" y="47520"/>
            <a:ext cx="263844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6"/>
                </a:solidFill>
                <a:latin typeface="News Gothic MT"/>
              </a:rPr>
              <a:t>¿Qué es protección?</a:t>
            </a:r>
            <a:endParaRPr b="0" lang="en-US" sz="40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4040"/>
                </a:solidFill>
                <a:latin typeface="News Gothic MT"/>
              </a:rPr>
              <a:t>“</a:t>
            </a:r>
            <a:r>
              <a:rPr b="0" lang="es-ES_tradnl" sz="3600" spc="-1" strike="noStrike">
                <a:solidFill>
                  <a:srgbClr val="404040"/>
                </a:solidFill>
                <a:latin typeface="News Gothic MT"/>
              </a:rPr>
              <a:t>La protección se refiere a la seguridad, la dignidad y los derechos de las personas afectadas por los desastres o los conflictos armados.”</a:t>
            </a:r>
            <a:endParaRPr b="0" lang="en-US" sz="3600" spc="-1" strike="noStrike">
              <a:solidFill>
                <a:srgbClr val="404040"/>
              </a:solidFill>
              <a:latin typeface="News Gothic MT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News Gothic MT"/>
            </a:endParaRPr>
          </a:p>
          <a:p>
            <a:pPr algn="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040"/>
                </a:solidFill>
                <a:latin typeface="News Gothic MT"/>
              </a:rPr>
              <a:t>Página 33 del Manual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d76"/>
                </a:solidFill>
                <a:latin typeface="News Gothic MT"/>
              </a:rPr>
              <a:t>¿Cómo relacionan ambos conceptos?</a:t>
            </a:r>
            <a:endParaRPr b="0" lang="en-US" sz="4000" spc="-1" strike="noStrike">
              <a:solidFill>
                <a:srgbClr val="749805"/>
              </a:solidFill>
              <a:latin typeface="News Gothic MT"/>
            </a:endParaRPr>
          </a:p>
        </p:txBody>
      </p:sp>
      <p:pic>
        <p:nvPicPr>
          <p:cNvPr id="953" name="Imagen 3" descr=""/>
          <p:cNvPicPr/>
          <p:nvPr/>
        </p:nvPicPr>
        <p:blipFill>
          <a:blip r:embed="rId1"/>
          <a:stretch/>
        </p:blipFill>
        <p:spPr>
          <a:xfrm>
            <a:off x="1847880" y="1936800"/>
            <a:ext cx="2860560" cy="1901880"/>
          </a:xfrm>
          <a:prstGeom prst="rect">
            <a:avLst/>
          </a:prstGeom>
          <a:ln w="0">
            <a:noFill/>
          </a:ln>
        </p:spPr>
      </p:pic>
      <p:pic>
        <p:nvPicPr>
          <p:cNvPr id="954" name="Imagen 5" descr=""/>
          <p:cNvPicPr/>
          <p:nvPr/>
        </p:nvPicPr>
        <p:blipFill>
          <a:blip r:embed="rId2"/>
          <a:stretch/>
        </p:blipFill>
        <p:spPr>
          <a:xfrm>
            <a:off x="5149800" y="1936800"/>
            <a:ext cx="289404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874"/>
              </a:spcBef>
              <a:buClr>
                <a:srgbClr val="003d7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000" spc="-1" strike="noStrike">
                <a:solidFill>
                  <a:srgbClr val="003d76"/>
                </a:solidFill>
                <a:latin typeface="News Gothic MT"/>
              </a:rPr>
              <a:t>Evitar daños y seguridad </a:t>
            </a:r>
            <a:r>
              <a:rPr b="0" lang="es-ES_tradnl" sz="3000" spc="-1" strike="noStrike">
                <a:solidFill>
                  <a:srgbClr val="404040"/>
                </a:solidFill>
                <a:latin typeface="News Gothic MT"/>
              </a:rPr>
              <a:t>(mantener a las personas en seguridad enfocándose en la acción, la incidencia y la asistencia)</a:t>
            </a:r>
            <a:endParaRPr b="0" lang="en-US" sz="30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80000"/>
              </a:lnSpc>
              <a:spcBef>
                <a:spcPts val="1874"/>
              </a:spcBef>
              <a:buClr>
                <a:srgbClr val="003d7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000" spc="-1" strike="noStrike">
                <a:solidFill>
                  <a:srgbClr val="003d76"/>
                </a:solidFill>
                <a:latin typeface="News Gothic MT"/>
              </a:rPr>
              <a:t>Dignidad</a:t>
            </a:r>
            <a:r>
              <a:rPr b="1" lang="es-ES_tradnl" sz="3000" spc="-1" strike="noStrike">
                <a:solidFill>
                  <a:srgbClr val="404040"/>
                </a:solidFill>
                <a:latin typeface="News Gothic MT"/>
              </a:rPr>
              <a:t> </a:t>
            </a:r>
            <a:r>
              <a:rPr b="0" lang="es-ES_tradnl" sz="3000" spc="-1" strike="noStrike">
                <a:solidFill>
                  <a:srgbClr val="404040"/>
                </a:solidFill>
                <a:latin typeface="News Gothic MT"/>
              </a:rPr>
              <a:t>(opciones y libertad para ejercer derechos, valoración personal y adquirir autonomía, reconocimiento pleno a la persona desde consideraciones físicas, psicológicas, sociales y culturales) </a:t>
            </a:r>
            <a:endParaRPr b="0" lang="en-US" sz="30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80000"/>
              </a:lnSpc>
              <a:spcBef>
                <a:spcPts val="1939"/>
              </a:spcBef>
              <a:buClr>
                <a:srgbClr val="003d7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404040"/>
              </a:solidFill>
              <a:latin typeface="News Gothic MT"/>
            </a:endParaRPr>
          </a:p>
        </p:txBody>
      </p:sp>
      <p:pic>
        <p:nvPicPr>
          <p:cNvPr id="956" name="Picture 3" descr="images-1.jpeg"/>
          <p:cNvPicPr/>
          <p:nvPr/>
        </p:nvPicPr>
        <p:blipFill>
          <a:blip r:embed="rId1"/>
          <a:stretch/>
        </p:blipFill>
        <p:spPr>
          <a:xfrm>
            <a:off x="5943600" y="685800"/>
            <a:ext cx="3200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622160" y="685440"/>
            <a:ext cx="675468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d76"/>
                </a:solidFill>
                <a:latin typeface="News Gothic MT"/>
              </a:rPr>
              <a:t>Objetivos de aprendizaje</a:t>
            </a:r>
            <a:endParaRPr b="0" lang="en-US" sz="40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1622160" y="2020680"/>
            <a:ext cx="67532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040"/>
                </a:solidFill>
                <a:latin typeface="News Gothic MT"/>
              </a:rPr>
              <a:t>Enumerar los 4 principios de protección y explicar su relación con los programas humanitarios</a:t>
            </a:r>
            <a:endParaRPr b="0" lang="en-US" sz="25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040"/>
                </a:solidFill>
                <a:latin typeface="News Gothic MT"/>
              </a:rPr>
              <a:t>Describir los enfoques de protección de Esfera</a:t>
            </a:r>
            <a:endParaRPr b="0" lang="en-US" sz="25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040"/>
                </a:solidFill>
                <a:latin typeface="News Gothic MT"/>
              </a:rPr>
              <a:t>Describir el marco jurídico que sustenta los principios de protección</a:t>
            </a:r>
            <a:endParaRPr b="0" lang="en-US" sz="25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Diagram 1" descr=""/>
          <p:cNvPicPr/>
          <p:nvPr/>
        </p:nvPicPr>
        <p:blipFill>
          <a:blip r:embed="rId1"/>
          <a:stretch/>
        </p:blipFill>
        <p:spPr>
          <a:xfrm>
            <a:off x="652320" y="-49320"/>
            <a:ext cx="8315640" cy="6705720"/>
          </a:xfrm>
          <a:prstGeom prst="rect">
            <a:avLst/>
          </a:prstGeom>
          <a:ln w="0">
            <a:noFill/>
          </a:ln>
        </p:spPr>
      </p:pic>
      <p:sp>
        <p:nvSpPr>
          <p:cNvPr id="960" name="2 CuadroTexto"/>
          <p:cNvSpPr/>
          <p:nvPr/>
        </p:nvSpPr>
        <p:spPr>
          <a:xfrm>
            <a:off x="-1440" y="64882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  <a:ea typeface="Arial"/>
              </a:rPr>
              <a:t>Pag. 32, 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771480" y="369720"/>
            <a:ext cx="5988240" cy="887760"/>
          </a:xfrm>
          <a:prstGeom prst="rect">
            <a:avLst/>
          </a:prstGeom>
          <a:noFill/>
          <a:ln w="0">
            <a:noFill/>
          </a:ln>
        </p:spPr>
        <p:txBody>
          <a:bodyPr l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d76"/>
                </a:solidFill>
                <a:latin typeface="News Gothic MT"/>
              </a:rPr>
              <a:t>2 enfoques, 4 principios</a:t>
            </a:r>
            <a:endParaRPr b="0" lang="en-US" sz="36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883440" y="1661040"/>
            <a:ext cx="3433680" cy="1006200"/>
          </a:xfrm>
          <a:prstGeom prst="rect">
            <a:avLst/>
          </a:prstGeom>
          <a:solidFill>
            <a:srgbClr val="83b829"/>
          </a:solidFill>
          <a:ln w="0">
            <a:noFill/>
          </a:ln>
        </p:spPr>
        <p:txBody>
          <a:bodyPr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s Gothic MT"/>
              </a:rPr>
              <a:t>Programas humanitarios sensibles a protección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771480" y="3492000"/>
            <a:ext cx="3703680" cy="3387960"/>
          </a:xfrm>
          <a:prstGeom prst="rect">
            <a:avLst/>
          </a:prstGeom>
          <a:noFill/>
          <a:ln w="0">
            <a:noFill/>
          </a:ln>
        </p:spPr>
        <p:txBody>
          <a:bodyPr lIns="45720" anchor="t">
            <a:normAutofit/>
          </a:bodyPr>
          <a:p>
            <a:pPr marL="343080" indent="-343080">
              <a:spcBef>
                <a:spcPts val="1800"/>
              </a:spcBef>
              <a:buClr>
                <a:srgbClr val="749805"/>
              </a:buClr>
              <a:buSzPct val="13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No dañar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marL="343080" indent="-343080">
              <a:spcBef>
                <a:spcPts val="1800"/>
              </a:spcBef>
              <a:buClr>
                <a:srgbClr val="749805"/>
              </a:buClr>
              <a:buSzPct val="13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Acceso a asistencia imparcial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4803840" y="1671480"/>
            <a:ext cx="3836880" cy="985320"/>
          </a:xfrm>
          <a:prstGeom prst="rect">
            <a:avLst/>
          </a:prstGeom>
          <a:solidFill>
            <a:srgbClr val="83b829"/>
          </a:solidFill>
          <a:ln w="0">
            <a:noFill/>
          </a:ln>
        </p:spPr>
        <p:txBody>
          <a:bodyPr anchor="ctr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s Gothic MT"/>
              </a:rPr>
              <a:t>Acciones legales específicas en contextos humanitarios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4659120" y="2963880"/>
            <a:ext cx="3701880" cy="3162240"/>
          </a:xfrm>
          <a:prstGeom prst="rect">
            <a:avLst/>
          </a:prstGeom>
          <a:noFill/>
          <a:ln w="0">
            <a:noFill/>
          </a:ln>
        </p:spPr>
        <p:txBody>
          <a:bodyPr lIns="45720" anchor="t">
            <a:normAutofit fontScale="95000"/>
          </a:bodyPr>
          <a:p>
            <a:pPr marL="434160" indent="-434160">
              <a:spcBef>
                <a:spcPts val="1800"/>
              </a:spcBef>
              <a:buClr>
                <a:srgbClr val="749805"/>
              </a:buClr>
              <a:buSzPct val="130000"/>
              <a:buFont typeface="News Gothic M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040"/>
                </a:solidFill>
                <a:latin typeface="News Gothic MT"/>
              </a:rPr>
              <a:t>Proteger a las personas de daños físicos y psicológicos debidos a violencia o coerción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 marL="434160" indent="-434160">
              <a:spcBef>
                <a:spcPts val="1800"/>
              </a:spcBef>
              <a:buClr>
                <a:srgbClr val="749805"/>
              </a:buClr>
              <a:buSzPct val="130000"/>
              <a:buFont typeface="News Gothic M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040"/>
                </a:solidFill>
                <a:latin typeface="News Gothic MT"/>
              </a:rPr>
              <a:t>Ayudar a reivindicar derechos, obtener reparación y recuperarse de los abusos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5T15:50:25Z</dcterms:created>
  <dc:creator>Emma Jowett</dc:creator>
  <dc:description/>
  <dc:language>en-US</dc:language>
  <cp:lastModifiedBy>CeciliaFurtade</cp:lastModifiedBy>
  <dcterms:modified xsi:type="dcterms:W3CDTF">2014-04-11T13:29:50Z</dcterms:modified>
  <cp:revision>156</cp:revision>
  <dc:subject/>
  <dc:title>PowerPoint Presentation</dc:title>
</cp:coreProperties>
</file>